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26.jpeg" ContentType="image/jpeg"/>
  <Override PartName="/ppt/media/image29.jpeg" ContentType="image/jpeg"/>
  <Override PartName="/ppt/media/image28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C639-4B02-4F8F-B7B4-F29AC085F1C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종이나 의복 등 습기에 약한 물품을 보관하는데 최고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!!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0EBE-FCEF-49D6-BE35-21B4ED59561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하므로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DDAA-53B7-4068-A2B5-BDAC1F7513A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습기에 약해 욕실 노노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037D4-EBF8-4734-BF5A-C060B263CF1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선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 일반적일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환각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문자가 넓을때 활용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1C7A-6720-41C6-8253-FD2B4C568D0C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평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일반적으로 양각이라 한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변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산각을 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의 모서리를 없애고          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근모양으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양음환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솟아 오른 자면에 음환각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다시 표현하는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5F55-A45F-4A46-9F71-A0EA6BE1B1D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구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보통 음양각이라 하며 맥부분을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둥글게 표현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-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음산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맥부분을 산처럼 뾰족하게 표현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               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한 기법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A049-15C7-42B0-929D-BF01C2C16FF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4ABE-97A8-4E81-BB45-F54E98345D89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F3B5-B6EF-4DF5-85DC-D26D115D2FF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C054-0653-4297-88B3-7A9FE9036F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오른쪽 사진 두 장은 류장발교수님방에서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93FB7-475B-467F-9122-DE9CB5B5DF3B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부채사진은 이덕재교수님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왼쪽사진은 권태호교수님방 목베게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3EABB-1FAC-444B-B567-438785ECE355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6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79054-79B6-40BF-B67B-DC90DA8A8DD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5F35-599D-40DD-B6DB-B401A8AF97F4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벽화에 보이는 평상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2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96BC-19E7-4C43-AC8D-3A7A3139A52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나전칠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: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목공예품에 장식하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큰건 대장경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작은건 나전칠기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BB83C-7379-4CB1-878C-3279840E196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</a:rPr>
              <a:t>그림 연상이라는것 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797B9-355F-473A-A00A-2DF74557BC6F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CE11-2AB1-40F4-AB3C-91A95D22B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82D-2567-400A-BD5B-C675F2C11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DF14-2DAC-400A-BD6D-72C9D469E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C705-3EA9-4DA1-AB9F-AC29319B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602FD-2686-4754-AA5F-69012B5F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22F7-0A48-4B49-9ED1-376FDDC1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2C5F-63D2-46FC-AACD-1328EED72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66644-056B-4D44-85FB-E0F2C917D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CB949-EBBC-4A5C-83E6-06DA0BE45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F6018-F00F-4E45-BE89-77071D84B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A3FA7-B52E-4421-9D0D-1BFDBEAB0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9909-1478-4BB0-8B4A-72878744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6EF95-0DAA-44BF-BBF0-5C06941A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F8FC1-8EB5-4E6D-924B-90D3D018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BFBDE-83D6-408C-A335-17E56AA6D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05DF-587D-49C3-9750-1303B207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FD4B0-3F21-446C-87E4-B708C3CEE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BB13C-DF7C-4DAF-B222-D3AD7BE5E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950CE-9CA5-46EA-986E-5AE44DC1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6FCE5-9807-4A0A-BC98-6D0B7EA63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9AD4-5134-42A3-8765-311B492C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E8E09-426E-4336-AFF9-09D0C93A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8CFA-B1B6-41BE-9266-DE08294F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4320F-D415-4616-8F01-37058B81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5BFA2-6778-48D4-B01F-9CE48F2F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2E07-F741-4EA4-B465-B41BAF785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C3CEC-C255-4F89-A10C-AC0621ED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B5E8-7609-440B-8067-19C5CA82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09371-88B9-4B13-844F-19CAE76F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3AD2F-84C9-412A-B401-619E6CCA6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9A0E-22AB-4491-849F-15545C5B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A5E-2D01-4704-83C8-9B536DED6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357-465B-453A-BC15-10239684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E83F-1B79-4BD1-819C-DF89A4FE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34C-4180-4D7A-8018-D8AAD0336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2E7C1-1FF0-4F73-B36A-A6AADEC69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71DF8-F514-4FD3-8A5E-5051C7239F3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F717E-D7A4-48D3-BE49-2AF49943D23E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6CCE-99C2-4552-8352-41CCB151548C}" type="slidenum">
              <a:rPr b="0" lang="ko-KR" sz="1200" spc="-1" strike="noStrike">
                <a:solidFill>
                  <a:srgbClr val="898989"/>
                </a:solidFill>
                <a:latin typeface="SJ깊은물빛"/>
                <a:ea typeface="SJ깊은물빛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74400" y="431280"/>
            <a:ext cx="7432920" cy="131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0" spc="-1" strike="noStrike">
                <a:solidFill>
                  <a:srgbClr val="000000"/>
                </a:solidFill>
                <a:latin typeface="SJ깊은물빛"/>
              </a:rPr>
              <a:t>Woodcraft</a:t>
            </a:r>
            <a:endParaRPr b="0" lang="en-US" sz="9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855720" y="2828880"/>
            <a:ext cx="7074000" cy="96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5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 정동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김영훈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최덕현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이수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소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옥의 기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실내가구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수축팽창의 변화가 별로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 결이 고우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윤기가 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촉감이 부드럽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습기에 강함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엌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의 기둥과 쇠목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동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골재와 장롱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오동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종이나 의복 등 습기에 약한 물품을 보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판재의 색이 희고 표면이 무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표면은 검고 광택이 없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거문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방가구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책장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갑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필통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등에 많이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느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높고 굵게 잘 자라 무늬결이 독특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건습에 예민하여 수축팽창의 폭이 심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리는 단점이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좋아 목가구의 쓰임새 폭이 넓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소품이나 미장재료에 널리 활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먹감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얇게 판재를 쓰면 쉽게 비틀어지거나 터짐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참죽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굵은 선의 나무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붉은색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뒤틀림이 별로 없고 큰 힘을 견딤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배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무가 탄력이 있고 단단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무늬결이 강하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95360" y="1870200"/>
            <a:ext cx="8229600" cy="38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은행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터지거나 휘지 않음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벼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탄력이 있어 흠이 잘 생기지 않고 벌레가 먹지 않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소반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장롱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조각재 등에 많이 쓰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피나무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부드럽고 온순한 재질로 넣고 두꺼운 재료로 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함지와 가리방 원반등에 사용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735120" y="31892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MDF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섬유와 합성수지 접착제에 의해 밀도가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500~800kg/m</a:t>
            </a:r>
            <a:r>
              <a:rPr b="0" lang="en-US" sz="2800" spc="-1" strike="noStrike" baseline="30000">
                <a:solidFill>
                  <a:srgbClr val="000000"/>
                </a:solidFill>
                <a:latin typeface="SJ깊은물빛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로 생산된 판상재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grpSp>
        <p:nvGrpSpPr>
          <p:cNvPr id="165" name="그룹 5"/>
          <p:cNvGrpSpPr/>
          <p:nvPr/>
        </p:nvGrpSpPr>
        <p:grpSpPr>
          <a:xfrm>
            <a:off x="615960" y="2109960"/>
            <a:ext cx="2803680" cy="769680"/>
            <a:chOff x="615960" y="2109960"/>
            <a:chExt cx="2803680" cy="769680"/>
          </a:xfrm>
        </p:grpSpPr>
        <p:sp>
          <p:nvSpPr>
            <p:cNvPr id="166" name="모서리가 둥근 직사각형 6"/>
            <p:cNvSpPr/>
            <p:nvPr/>
          </p:nvSpPr>
          <p:spPr>
            <a:xfrm>
              <a:off x="615960" y="2109960"/>
              <a:ext cx="2803680" cy="769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모서리가 둥근 직사각형 4"/>
            <p:cNvSpPr/>
            <p:nvPr/>
          </p:nvSpPr>
          <p:spPr>
            <a:xfrm>
              <a:off x="657000" y="2146320"/>
              <a:ext cx="2721240" cy="69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4720" rIns="144720" tIns="144720" bIns="144720" anchor="ctr">
              <a:noAutofit/>
            </a:bodyPr>
            <a:p>
              <a:pPr algn="ctr">
                <a:lnSpc>
                  <a:spcPct val="90000"/>
                </a:lnSpc>
                <a:spcAft>
                  <a:spcPts val="1661"/>
                </a:spcAft>
                <a:tabLst>
                  <a:tab algn="l" pos="0"/>
                  <a:tab algn="l" pos="1689120"/>
                  <a:tab algn="l" pos="3378240"/>
                  <a:tab algn="l" pos="5067360"/>
                  <a:tab algn="l" pos="6756480"/>
                  <a:tab algn="l" pos="8445600"/>
                  <a:tab algn="l" pos="10134720"/>
                </a:tabLst>
              </a:pPr>
              <a:r>
                <a:rPr b="0" lang="ko-KR" sz="3800" spc="-1" strike="noStrike">
                  <a:solidFill>
                    <a:srgbClr val="ffffff"/>
                  </a:solidFill>
                  <a:latin typeface="SJ깊은물빛"/>
                  <a:ea typeface="SJ깊은물빛"/>
                </a:rPr>
                <a:t>가공목재</a:t>
              </a:r>
              <a:endParaRPr b="0" lang="en-US" sz="3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제목 1"/>
          <p:cNvSpPr/>
          <p:nvPr/>
        </p:nvSpPr>
        <p:spPr>
          <a:xfrm>
            <a:off x="735120" y="1511280"/>
            <a:ext cx="75294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MDF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의 장단점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다이어그램 4" descr=""/>
          <p:cNvPicPr/>
          <p:nvPr/>
        </p:nvPicPr>
        <p:blipFill>
          <a:blip r:embed="rId1"/>
          <a:stretch/>
        </p:blipFill>
        <p:spPr>
          <a:xfrm>
            <a:off x="536400" y="1865160"/>
            <a:ext cx="8406000" cy="471816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의 선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점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 등이 음으로 표현하는 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73" name="그림 3" descr="음각.bmp"/>
          <p:cNvPicPr/>
          <p:nvPr/>
        </p:nvPicPr>
        <p:blipFill>
          <a:blip r:embed="rId1"/>
          <a:stretch/>
        </p:blipFill>
        <p:spPr>
          <a:xfrm>
            <a:off x="735120" y="3549600"/>
            <a:ext cx="7553160" cy="14112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4"/>
          <p:cNvSpPr/>
          <p:nvPr/>
        </p:nvSpPr>
        <p:spPr>
          <a:xfrm>
            <a:off x="974880" y="5234040"/>
            <a:ext cx="21589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선각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3613320" y="5234040"/>
            <a:ext cx="21571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6130800" y="5234040"/>
            <a:ext cx="215748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그림 3" descr="양각.bmp"/>
          <p:cNvPicPr/>
          <p:nvPr/>
        </p:nvPicPr>
        <p:blipFill>
          <a:blip r:embed="rId1"/>
          <a:stretch/>
        </p:blipFill>
        <p:spPr>
          <a:xfrm>
            <a:off x="735120" y="3789360"/>
            <a:ext cx="7673760" cy="12700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양각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문자 외 부분을 파내어 글자가 위로 솟게 하는 표현기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0" name="TextBox 10"/>
          <p:cNvSpPr/>
          <p:nvPr/>
        </p:nvSpPr>
        <p:spPr>
          <a:xfrm>
            <a:off x="81432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평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2732040" y="538812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변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TextBox 12"/>
          <p:cNvSpPr/>
          <p:nvPr/>
        </p:nvSpPr>
        <p:spPr>
          <a:xfrm>
            <a:off x="4649760" y="538812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TextBox 13"/>
          <p:cNvSpPr/>
          <p:nvPr/>
        </p:nvSpPr>
        <p:spPr>
          <a:xfrm>
            <a:off x="6448320" y="5388120"/>
            <a:ext cx="19195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양음환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조각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음양각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259920" indent="-997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획의 중심인 맥은 양으로 하고 획의 외부선 부분은 음으로 하는 기법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119880" indent="-1198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SJ깊은물빛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86" name="TextBox 11"/>
          <p:cNvSpPr/>
          <p:nvPr/>
        </p:nvSpPr>
        <p:spPr>
          <a:xfrm>
            <a:off x="2289240" y="5273640"/>
            <a:ext cx="191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구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TextBox 12"/>
          <p:cNvSpPr/>
          <p:nvPr/>
        </p:nvSpPr>
        <p:spPr>
          <a:xfrm>
            <a:off x="5645160" y="5273640"/>
            <a:ext cx="191916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음산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8" name="그림 8" descr="음양각.bmp"/>
          <p:cNvPicPr/>
          <p:nvPr/>
        </p:nvPicPr>
        <p:blipFill>
          <a:blip r:embed="rId1"/>
          <a:stretch/>
        </p:blipFill>
        <p:spPr>
          <a:xfrm>
            <a:off x="1568520" y="3595680"/>
            <a:ext cx="613872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95360" y="3110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 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차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5960" y="1630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정의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역사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특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재료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기법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  <a:p>
            <a:pPr marL="514440" indent="-514440">
              <a:lnSpc>
                <a:spcPct val="120000"/>
              </a:lnSpc>
              <a:spcBef>
                <a:spcPts val="751"/>
              </a:spcBef>
              <a:buClr>
                <a:srgbClr val="000000"/>
              </a:buClr>
              <a:buFont typeface="SJ깊은물빛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SJ깊은물빛"/>
              </a:rPr>
              <a:t>목공예 전망</a:t>
            </a:r>
            <a:endParaRPr b="0" lang="en-US" sz="30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연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면과 면을 서로 엇베어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1" name="그림 8" descr="연귀.JPG"/>
          <p:cNvPicPr/>
          <p:nvPr/>
        </p:nvPicPr>
        <p:blipFill>
          <a:blip r:embed="rId1"/>
          <a:stretch/>
        </p:blipFill>
        <p:spPr>
          <a:xfrm>
            <a:off x="974880" y="2949480"/>
            <a:ext cx="744516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사개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두 개의 목재가 직각으로 접합이 되도록 요철되게 절개하여 맞추는 방법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=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손가락 맞춤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4" name="그림 4" descr="사개맞춤.jpg"/>
          <p:cNvPicPr/>
          <p:nvPr/>
        </p:nvPicPr>
        <p:blipFill>
          <a:blip r:embed="rId1"/>
          <a:stretch/>
        </p:blipFill>
        <p:spPr>
          <a:xfrm>
            <a:off x="1095480" y="3789360"/>
            <a:ext cx="3836880" cy="2373480"/>
          </a:xfrm>
          <a:prstGeom prst="rect">
            <a:avLst/>
          </a:prstGeom>
          <a:ln w="0">
            <a:noFill/>
          </a:ln>
        </p:spPr>
      </p:pic>
      <p:pic>
        <p:nvPicPr>
          <p:cNvPr id="195" name="그림 5" descr="사개맞춤1.JPG"/>
          <p:cNvPicPr/>
          <p:nvPr/>
        </p:nvPicPr>
        <p:blipFill>
          <a:blip r:embed="rId2"/>
          <a:stretch/>
        </p:blipFill>
        <p:spPr>
          <a:xfrm>
            <a:off x="5651640" y="3068640"/>
            <a:ext cx="299700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기법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맞춤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59984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부맞춤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한쪽 목재에는 장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다른 한 쪽에 장부 홈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구멍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을 만들어 서로 맞추는 방법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98" name="그림 6" descr="장부맞춤.JPG"/>
          <p:cNvPicPr/>
          <p:nvPr/>
        </p:nvPicPr>
        <p:blipFill>
          <a:blip r:embed="rId1"/>
          <a:stretch/>
        </p:blipFill>
        <p:spPr>
          <a:xfrm>
            <a:off x="5291280" y="3629160"/>
            <a:ext cx="3597120" cy="2466720"/>
          </a:xfrm>
          <a:prstGeom prst="rect">
            <a:avLst/>
          </a:prstGeom>
          <a:ln w="0">
            <a:noFill/>
          </a:ln>
        </p:spPr>
      </p:pic>
      <p:pic>
        <p:nvPicPr>
          <p:cNvPr id="199" name="그림 7" descr="장부맞춤1.JPG"/>
          <p:cNvPicPr/>
          <p:nvPr/>
        </p:nvPicPr>
        <p:blipFill>
          <a:blip r:embed="rId2"/>
          <a:stretch/>
        </p:blipFill>
        <p:spPr>
          <a:xfrm>
            <a:off x="844560" y="3929040"/>
            <a:ext cx="3963960" cy="21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76200" y="310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 작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411520" y="1869840"/>
            <a:ext cx="313668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 algn="ctr">
              <a:lnSpc>
                <a:spcPct val="2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2" name="그림 4" descr="ing.jpg"/>
          <p:cNvPicPr/>
          <p:nvPr/>
        </p:nvPicPr>
        <p:blipFill>
          <a:blip r:embed="rId1"/>
          <a:stretch/>
        </p:blipFill>
        <p:spPr>
          <a:xfrm>
            <a:off x="1555920" y="1860480"/>
            <a:ext cx="340992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장식용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04" name="Picture 4" descr="장식품"/>
          <p:cNvPicPr/>
          <p:nvPr/>
        </p:nvPicPr>
        <p:blipFill>
          <a:blip r:embed="rId1"/>
          <a:stretch/>
        </p:blipFill>
        <p:spPr>
          <a:xfrm>
            <a:off x="376200" y="1751040"/>
            <a:ext cx="1704960" cy="27637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5"/>
          <p:cNvSpPr/>
          <p:nvPr/>
        </p:nvSpPr>
        <p:spPr>
          <a:xfrm>
            <a:off x="855720" y="4987800"/>
            <a:ext cx="6980040" cy="12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원목의 느낌을 살려 전통적인 감각을 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주로 오동나무 사용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06" name="그림 4" descr="화분받이.JPG"/>
          <p:cNvPicPr/>
          <p:nvPr/>
        </p:nvPicPr>
        <p:blipFill>
          <a:blip r:embed="rId2"/>
          <a:stretch/>
        </p:blipFill>
        <p:spPr>
          <a:xfrm>
            <a:off x="2293920" y="1870200"/>
            <a:ext cx="2432160" cy="2571480"/>
          </a:xfrm>
          <a:prstGeom prst="rect">
            <a:avLst/>
          </a:prstGeom>
          <a:ln w="0">
            <a:noFill/>
          </a:ln>
        </p:spPr>
      </p:pic>
      <p:pic>
        <p:nvPicPr>
          <p:cNvPr id="207" name="그림 7" descr="장식1.JPG"/>
          <p:cNvPicPr/>
          <p:nvPr/>
        </p:nvPicPr>
        <p:blipFill>
          <a:blip r:embed="rId3"/>
          <a:stretch/>
        </p:blipFill>
        <p:spPr>
          <a:xfrm>
            <a:off x="6969240" y="1511280"/>
            <a:ext cx="1828800" cy="3355920"/>
          </a:xfrm>
          <a:prstGeom prst="rect">
            <a:avLst/>
          </a:prstGeom>
          <a:ln w="0">
            <a:noFill/>
          </a:ln>
        </p:spPr>
      </p:pic>
      <p:pic>
        <p:nvPicPr>
          <p:cNvPr id="208" name="그림 9" descr="장식2.JPG"/>
          <p:cNvPicPr/>
          <p:nvPr/>
        </p:nvPicPr>
        <p:blipFill>
          <a:blip r:embed="rId4"/>
          <a:stretch/>
        </p:blipFill>
        <p:spPr>
          <a:xfrm>
            <a:off x="5051520" y="1511280"/>
            <a:ext cx="167004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생필품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0" name="Picture 6" descr="제기"/>
          <p:cNvPicPr/>
          <p:nvPr/>
        </p:nvPicPr>
        <p:blipFill>
          <a:blip r:embed="rId1"/>
          <a:stretch/>
        </p:blipFill>
        <p:spPr>
          <a:xfrm>
            <a:off x="6249960" y="4987800"/>
            <a:ext cx="2538360" cy="1438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"/>
          <p:cNvGraphicFramePr/>
          <p:nvPr/>
        </p:nvGraphicFramePr>
        <p:xfrm>
          <a:off x="974880" y="2230560"/>
          <a:ext cx="5187960" cy="1938240"/>
        </p:xfrm>
        <a:graphic>
          <a:graphicData uri="http://schemas.openxmlformats.org/drawingml/2006/table">
            <a:tbl>
              <a:tblPr/>
              <a:tblGrid>
                <a:gridCol w="1930320"/>
                <a:gridCol w="3257640"/>
              </a:tblGrid>
              <a:tr h="59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오동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틀어짐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</a:t>
                      </a: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휘어짐이 없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물푸레나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더 고풍스러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단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Picture 28" descr="식탁"/>
          <p:cNvPicPr/>
          <p:nvPr/>
        </p:nvPicPr>
        <p:blipFill>
          <a:blip r:embed="rId2"/>
          <a:stretch/>
        </p:blipFill>
        <p:spPr>
          <a:xfrm>
            <a:off x="3732120" y="4508640"/>
            <a:ext cx="1897200" cy="1744560"/>
          </a:xfrm>
          <a:prstGeom prst="rect">
            <a:avLst/>
          </a:prstGeom>
          <a:ln w="0">
            <a:noFill/>
          </a:ln>
        </p:spPr>
      </p:pic>
      <p:pic>
        <p:nvPicPr>
          <p:cNvPr id="213" name="그림 7" descr="베게.JPG"/>
          <p:cNvPicPr/>
          <p:nvPr/>
        </p:nvPicPr>
        <p:blipFill>
          <a:blip r:embed="rId3"/>
          <a:stretch/>
        </p:blipFill>
        <p:spPr>
          <a:xfrm>
            <a:off x="735120" y="4748040"/>
            <a:ext cx="2465280" cy="1544760"/>
          </a:xfrm>
          <a:prstGeom prst="rect">
            <a:avLst/>
          </a:prstGeom>
          <a:ln w="0">
            <a:noFill/>
          </a:ln>
        </p:spPr>
      </p:pic>
      <p:pic>
        <p:nvPicPr>
          <p:cNvPr id="214" name="그림 8" descr="cycameraimage(3).jpg"/>
          <p:cNvPicPr/>
          <p:nvPr/>
        </p:nvPicPr>
        <p:blipFill>
          <a:blip r:embed="rId4"/>
          <a:stretch/>
        </p:blipFill>
        <p:spPr>
          <a:xfrm>
            <a:off x="6729480" y="1751040"/>
            <a:ext cx="161748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작품 </a:t>
            </a:r>
            <a:r>
              <a:rPr b="0" lang="en-US" sz="4400" spc="-1" strike="noStrike">
                <a:solidFill>
                  <a:srgbClr val="000000"/>
                </a:solidFill>
                <a:latin typeface="SJ깊은물빛"/>
              </a:rPr>
              <a:t>- </a:t>
            </a: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문화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216" name="Picture 3" descr="장승"/>
          <p:cNvPicPr/>
          <p:nvPr/>
        </p:nvPicPr>
        <p:blipFill>
          <a:blip r:embed="rId1"/>
          <a:stretch/>
        </p:blipFill>
        <p:spPr>
          <a:xfrm>
            <a:off x="6261120" y="1619280"/>
            <a:ext cx="2292480" cy="4795920"/>
          </a:xfrm>
          <a:prstGeom prst="rect">
            <a:avLst/>
          </a:prstGeom>
          <a:ln w="0">
            <a:noFill/>
          </a:ln>
        </p:spPr>
      </p:pic>
      <p:pic>
        <p:nvPicPr>
          <p:cNvPr id="217" name="그림 5" descr="하회탈.JPG"/>
          <p:cNvPicPr/>
          <p:nvPr/>
        </p:nvPicPr>
        <p:blipFill>
          <a:blip r:embed="rId2"/>
          <a:stretch/>
        </p:blipFill>
        <p:spPr>
          <a:xfrm>
            <a:off x="974880" y="1751040"/>
            <a:ext cx="2398680" cy="16779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5"/>
          <p:cNvSpPr/>
          <p:nvPr/>
        </p:nvSpPr>
        <p:spPr>
          <a:xfrm>
            <a:off x="615960" y="3549600"/>
            <a:ext cx="37162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밤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잘 썩지 않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오리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조각 잘 됨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자작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결 좋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은행나무 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  <a:ea typeface="SJ깊은물빛"/>
              </a:rPr>
              <a:t>뽀얀 색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19" name="그림 6" descr="솟대.jpg"/>
          <p:cNvPicPr/>
          <p:nvPr/>
        </p:nvPicPr>
        <p:blipFill>
          <a:blip r:embed="rId3"/>
          <a:stretch/>
        </p:blipFill>
        <p:spPr>
          <a:xfrm>
            <a:off x="4332240" y="1722600"/>
            <a:ext cx="1677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전망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6840" y="1599840"/>
            <a:ext cx="8550360" cy="42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결을 부각시키고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단점을 보안하여 자연미의 표현가능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나무 공예와 친환경이 트렌드가 되면서 인기를 얻음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친환경장난감의 출시로 여러방향으로 발전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목공예전문가가 없어지는 추세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유행에 민감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000000"/>
                </a:solidFill>
                <a:latin typeface="SJ깊은물빛"/>
              </a:rPr>
              <a:t>목공예의 정의</a:t>
            </a:r>
            <a:endParaRPr b="0" lang="en-US" sz="48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75840" y="1870200"/>
            <a:ext cx="8309160" cy="25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목재를 이용하여 음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양각</a:t>
            </a:r>
            <a:r>
              <a:rPr b="0" lang="en-US" sz="34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3400" spc="-1" strike="noStrike">
                <a:solidFill>
                  <a:srgbClr val="000000"/>
                </a:solidFill>
                <a:latin typeface="SJ깊은물빛"/>
              </a:rPr>
              <a:t>투각 등의 기법으로 문양을 새기거나 외형을 완성하는 공예품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36" name="그림 3" descr="%B9%DD~1.JPG"/>
          <p:cNvPicPr/>
          <p:nvPr/>
        </p:nvPicPr>
        <p:blipFill>
          <a:blip r:embed="rId1"/>
          <a:stretch/>
        </p:blipFill>
        <p:spPr>
          <a:xfrm>
            <a:off x="5770440" y="3605040"/>
            <a:ext cx="3373560" cy="32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95360" y="1511280"/>
            <a:ext cx="8229600" cy="47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2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~13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고딕 건축양식이 발달하여 유럽에서는 의자나 테이블이 대량 생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제작기술도 고도화하여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많은 고전양식의 가구가 출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17∼18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를 중심으로 한 목공예의 황금시대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J깊은물빛"/>
              </a:rPr>
              <a:t>20</a:t>
            </a: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세기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기계와 강력한 접착제의 출현으로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공장생산으로 이행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360" y="4748040"/>
            <a:ext cx="8229600" cy="16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고려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목공예가 가장 화려하게 꽃피운 시대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나전칠기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대장경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1" name="그림 5" descr="대장경.JPG"/>
          <p:cNvPicPr/>
          <p:nvPr/>
        </p:nvPicPr>
        <p:blipFill>
          <a:blip r:embed="rId1"/>
          <a:stretch/>
        </p:blipFill>
        <p:spPr>
          <a:xfrm>
            <a:off x="615960" y="1717560"/>
            <a:ext cx="7074000" cy="2643480"/>
          </a:xfrm>
          <a:prstGeom prst="rect">
            <a:avLst/>
          </a:prstGeom>
          <a:ln w="0">
            <a:noFill/>
          </a:ln>
        </p:spPr>
      </p:pic>
      <p:pic>
        <p:nvPicPr>
          <p:cNvPr id="142" name="그림 6" descr="나전칠기.JPG"/>
          <p:cNvPicPr/>
          <p:nvPr/>
        </p:nvPicPr>
        <p:blipFill>
          <a:blip r:embed="rId2"/>
          <a:stretch/>
        </p:blipFill>
        <p:spPr>
          <a:xfrm>
            <a:off x="6130800" y="3549600"/>
            <a:ext cx="2651400" cy="15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191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역사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95360" y="1990800"/>
            <a:ext cx="8229600" cy="26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조선시대 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자연 목리의 미로써 통일성을 나타냄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5" name="그림 5" descr="연상.JPG"/>
          <p:cNvPicPr/>
          <p:nvPr/>
        </p:nvPicPr>
        <p:blipFill>
          <a:blip r:embed="rId1"/>
          <a:stretch/>
        </p:blipFill>
        <p:spPr>
          <a:xfrm>
            <a:off x="615960" y="3668760"/>
            <a:ext cx="800100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특징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095480" y="2230560"/>
          <a:ext cx="7432560" cy="2757240"/>
        </p:xfrm>
        <a:graphic>
          <a:graphicData uri="http://schemas.openxmlformats.org/drawingml/2006/table">
            <a:tbl>
              <a:tblPr/>
              <a:tblGrid>
                <a:gridCol w="1917720"/>
                <a:gridCol w="5514840"/>
              </a:tblGrid>
              <a:tr h="155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장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비중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,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열전도도가 적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강도가 크고 가공이 용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무늬가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단점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가연성과 부패성이 있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함수율에 의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 </a:t>
                      </a:r>
                      <a:r>
                        <a:rPr b="0" lang="ko-KR" sz="2800" spc="-1" strike="noStrike">
                          <a:solidFill>
                            <a:srgbClr val="000000"/>
                          </a:solidFill>
                          <a:latin typeface="SJ깊은물빛"/>
                          <a:ea typeface="SJ깊은물빛"/>
                        </a:rPr>
                        <a:t>변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49" name="다이어그램 5" descr=""/>
          <p:cNvPicPr/>
          <p:nvPr/>
        </p:nvPicPr>
        <p:blipFill>
          <a:blip r:embed="rId1"/>
          <a:stretch/>
        </p:blipFill>
        <p:spPr>
          <a:xfrm>
            <a:off x="476280" y="1620720"/>
            <a:ext cx="8296200" cy="407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SJ깊은물빛"/>
              </a:rPr>
              <a:t>목공예의 재료</a:t>
            </a:r>
            <a:endParaRPr b="0" lang="en-US" sz="4400" spc="-1" strike="noStrike">
              <a:solidFill>
                <a:srgbClr val="000000"/>
              </a:solidFill>
              <a:latin typeface="SJ깊은물빛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76200" y="247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침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백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해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육송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잣나무는 접착력이 약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공이 쉽고 곧으며 긴재료를 얻을 수 있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2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SJ깊은물빛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J깊은물빛"/>
              </a:rPr>
              <a:t>활엽수</a:t>
            </a:r>
            <a:endParaRPr b="0" lang="en-US" sz="32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단단함</a:t>
            </a:r>
            <a:r>
              <a:rPr b="0" lang="en-US" sz="2800" spc="-1" strike="noStrike">
                <a:solidFill>
                  <a:srgbClr val="000000"/>
                </a:solidFill>
                <a:latin typeface="SJ깊은물빛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가구 기물로 이용하며 무늬가 좋음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재질이 단단하고 무늬와 색상이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SJ깊은물빛"/>
              </a:rPr>
              <a:t>강도는 침엽수보다 강함</a:t>
            </a:r>
            <a:endParaRPr b="0" lang="en-US" sz="2800" spc="-1" strike="noStrike">
              <a:solidFill>
                <a:srgbClr val="000000"/>
              </a:solidFill>
              <a:latin typeface="SJ깊은물빛"/>
            </a:endParaRPr>
          </a:p>
        </p:txBody>
      </p:sp>
      <p:pic>
        <p:nvPicPr>
          <p:cNvPr id="152" name="그룹 3" descr=""/>
          <p:cNvPicPr/>
          <p:nvPr/>
        </p:nvPicPr>
        <p:blipFill>
          <a:blip r:embed="rId1"/>
          <a:stretch/>
        </p:blipFill>
        <p:spPr>
          <a:xfrm>
            <a:off x="596880" y="1536840"/>
            <a:ext cx="2914560" cy="82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02:56:58Z</dcterms:created>
  <dc:creator>sec</dc:creator>
  <dc:description/>
  <dc:language>en-US</dc:language>
  <cp:lastModifiedBy>이수연</cp:lastModifiedBy>
  <dcterms:modified xsi:type="dcterms:W3CDTF">2011-05-30T14:39:10Z</dcterms:modified>
  <cp:revision>131</cp:revision>
  <dc:subject/>
  <dc:title>목공예품</dc:title>
</cp:coreProperties>
</file>